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pcoming Projec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Getting ready for Art Show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441600" y="2018880"/>
            <a:ext cx="6121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271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2712"/>
                </a:solidFill>
                <a:latin typeface="Gill Sans"/>
              </a:rPr>
              <a:t>And Next...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lf Portrait with Express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dent will complete a quality self portrait in charcoal demonstrating a firm understanding of value, the medium, and propor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dent’s self portrait shall include expression as well as a background.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s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	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533520" y="2146320"/>
            <a:ext cx="4344840" cy="4838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84280" y="7086600"/>
            <a:ext cx="4228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athe Kollwitz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8597880" y="2133720"/>
            <a:ext cx="4025880" cy="54864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432320" y="3720960"/>
            <a:ext cx="4406760" cy="56390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84400" y="8830080"/>
            <a:ext cx="3029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uck Clo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8880480" y="7715160"/>
            <a:ext cx="34671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dent self portra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073320" y="152280"/>
            <a:ext cx="7039080" cy="946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330120" y="9310680"/>
            <a:ext cx="29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Karine M.Swens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330120" y="2438280"/>
            <a:ext cx="6629400" cy="5083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7493040" y="1905120"/>
            <a:ext cx="4734000" cy="62481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83560" y="1295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ds Peter Brandstrup Jense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irections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	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82760" y="2895480"/>
            <a:ext cx="467352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udents take photo of themselve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int out in 8 1/2 x 11. Can be done in classroom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rid by splitting in fourths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raw using willow and compressed charcoal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5664240" y="2590920"/>
            <a:ext cx="7023240" cy="5724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7326360" y="7623720"/>
            <a:ext cx="4816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rtrait by Courb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181680" y="4230000"/>
            <a:ext cx="6628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You pick..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w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get start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adline:  April 1s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431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opic One: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ill Lif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90544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Yes...this will be fun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3800" y="2286000"/>
            <a:ext cx="7010280" cy="67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ill life is a genre consists of an arrangement of inanimate objects that would typically be seen in a house.  Flowers, food, pencils, and fabric are regularly seen objects in a still life painting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ill life images are controlled completely by the artist.  They create the composition, versus with landscapes, the land determines the composition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632720" y="2692440"/>
            <a:ext cx="47372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istory of Still Lif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46360" y="2425320"/>
            <a:ext cx="7327800" cy="734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ill life drawings were found carved into the sides of Egyptian tombs.  They became extremely popular in the 16th with classical painting. 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ill Life consisted of allegorical themes (visual messages), and religious themes.  The history of comic strips derived from still lifes because artists of old loved to throw in sexual innuendos. 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80880" y="3375000"/>
            <a:ext cx="462276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rtists to Recogniz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413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uan Sanchez Cota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mbrosius Bosschaert the Eld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ames Pea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toine Voll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douard Man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ul Cezan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7631280" y="3645000"/>
            <a:ext cx="4967280" cy="3962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8051760" y="7778880"/>
            <a:ext cx="433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yramid of Skulls by Paul Cezann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to Make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54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beauty of still life is the artist controls the composition: the arrangement of all the eleme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oose objects that interest you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oose a fabric that compliments the objects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rrange on a tabl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nk about: focal point, splitting image in thirds, rhythm, and colors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99000"/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ake photograph of your set up and use as reference when drawing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quirements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dents will complete a quality still life drawing, using soft pastel, oil pastel, or colored pencil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udents will demonstrate an understanding of composition, movement, rhythm, color, and use of chosen medium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2760" y="2413080"/>
            <a:ext cx="5689440" cy="31622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7848720" y="2413080"/>
            <a:ext cx="4432320" cy="31654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092240" y="5935680"/>
            <a:ext cx="4470480" cy="3398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631280" y="5778360"/>
            <a:ext cx="4674960" cy="3708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321160" y="3936960"/>
            <a:ext cx="278136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06440" y="2209680"/>
            <a:ext cx="4829040" cy="6019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045120" y="2133720"/>
            <a:ext cx="55515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eoryan</cp:lastModifiedBy>
  <dcterms:modified xsi:type="dcterms:W3CDTF">2010-02-02T21:28:41Z</dcterms:modified>
  <cp:revision>2</cp:revision>
  <dc:subject/>
  <dc:title>Upcoming Projects</dc:title>
</cp:coreProperties>
</file>